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648-8783-4890-AA24-8F7AC925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699-7922-4FE9-8D75-8083FBA8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8A8-56FF-49C8-AFCB-FA9E075F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242-1742-4917-9032-08A67F8E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CF08-3576-4CB2-ABE6-A05DF0C3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367B-7D52-493C-BB37-7D6FBA75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BD01-6281-4A74-8085-C6E16ECC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397E-D780-4235-B431-DC9C847A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2313-52E6-4607-B0A4-B430EDB5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9D43-D7E7-4FF6-9E68-4E814A8C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3D4F-B57D-437A-AF2E-C699B9E5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597-AF1F-4DC3-925A-65D8E56D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BA44-1469-4FE0-AA16-8EF6E511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719A-8110-4645-88A2-BFA843A8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F5CC-36A7-4825-9992-A7C0AC68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F9E7-36B4-4638-B8AA-81C8F294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29A9-63CF-47D1-BD66-839039FB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9AC-7FAA-482A-A4EE-D492EA06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797-01E4-495E-B778-8D24F51C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B7E-3ECF-4BCD-88FB-4475C139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A03-EE4F-47D6-AC92-77CA725A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45B-8960-40EB-9F4E-C48B45F6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BC2-62CA-45E2-80CA-694567A8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8B2-6DA4-433C-8887-2BAB0D69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8886-87DE-4BB6-A152-B76EDD389E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AC68-6051-4E85-AABE-3B12C61C9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as comid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lexsey Chern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sayu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el desayuno me gusto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cereal    el pan tostado   un yog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go de naranja     el h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4572000"/>
            <a:ext cx="1735200" cy="2019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90720" y="2514600"/>
            <a:ext cx="1295280" cy="1676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895480" y="25146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86400" y="2590920"/>
            <a:ext cx="1300320" cy="164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657600" y="4648320"/>
            <a:ext cx="240516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lmuerzo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el almuerzo me gusto com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hamburguesa  un sopa  un sal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as fritas  un limo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1565280" cy="1951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886200" y="2362320"/>
            <a:ext cx="1444680" cy="1218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429000" y="4191120"/>
            <a:ext cx="2092320" cy="139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715000" y="2438280"/>
            <a:ext cx="190188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ena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el cena me gusto com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biftec  las papas  el arroz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cola   los frijol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1676520" cy="2019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175248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438280" y="259092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495680" y="2590920"/>
            <a:ext cx="1292400" cy="1226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666880" y="4572000"/>
            <a:ext cx="17956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23:57:32Z</dcterms:created>
  <dc:creator> </dc:creator>
  <dc:description/>
  <dc:language>en-US</dc:language>
  <cp:lastModifiedBy> </cp:lastModifiedBy>
  <dcterms:modified xsi:type="dcterms:W3CDTF">2011-04-15T00:52:29Z</dcterms:modified>
  <cp:revision>8</cp:revision>
  <dc:subject/>
  <dc:title>Las comidas</dc:title>
</cp:coreProperties>
</file>